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10A-8AD0-4606-96ED-ED2E2693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CDB-C190-423A-9E2F-A1C45263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D2A-468D-4F14-91B5-FA662359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F28-9919-4364-8CC1-38AF59F9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297-36DE-4884-B87D-E17F073A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4AC-0FEA-4F11-AE9F-FDED5D0B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257-A866-4CFD-8C60-33EEFFA8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5D5-790D-4678-B089-BC7F34C6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14E-2740-4005-8F5A-AC217D03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A04-7830-4869-AC1E-089B6FD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8A4-AB2A-4578-81CF-5E6A233A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9B8-2668-4FE0-8CDC-ACF1EDA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4ABC-F5B6-4F93-9DA6-B9E859D8E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34920" y="1338120"/>
          <a:ext cx="7272360" cy="417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1338120"/>
                    <a:ext cx="727236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30:52Z</dcterms:created>
  <dc:creator>Mª José</dc:creator>
  <dc:description/>
  <dc:language>en-US</dc:language>
  <cp:lastModifiedBy>Mª José</cp:lastModifiedBy>
  <dcterms:modified xsi:type="dcterms:W3CDTF">2009-05-08T13:32:45Z</dcterms:modified>
  <cp:revision>1</cp:revision>
  <dc:subject/>
  <dc:title>Diapositiva 1</dc:title>
</cp:coreProperties>
</file>